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6F3-2987-4CA5-BE36-C2450115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ABD-505F-4CE9-AA9F-0B7C82E8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520-F54B-457D-B55C-05151930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9F6-452D-41BB-BE73-29089BA5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AFF-705B-439D-9B21-69B35B72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FB4-8E5C-47B0-8DF9-AD159A52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243-94A6-4600-8508-325CA780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F9E-7A80-4F42-899E-C46D916B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B55-C1A2-443B-A6C7-EA749659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13F-332D-446B-9A89-64D8E0E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CFF-56E6-4626-B94F-3953FC26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44E-E97A-4704-B13F-0E7A3C00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05AD-268E-4824-8ED6-3E8D4B8A9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ber Gesundhe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dema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viele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 tu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rinke viele wasser. Jeden Tag trin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wasser. Wasser ist sehr gut f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ine Gesund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eimal in die Woche, Ich tanze g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nzen macht sehr spa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esse Obst weil es schmec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hr gut. Ich esse Erdbe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Apfel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43800" y="1447920"/>
            <a:ext cx="130644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489040" cy="1903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6213" t="5990" r="18923" b="0"/>
          <a:stretch/>
        </p:blipFill>
        <p:spPr>
          <a:xfrm>
            <a:off x="7772400" y="3505320"/>
            <a:ext cx="9144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ist sehr ungesu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rauchst? Es ist sehr schade dass du rauchst. Rauchen ist sehr undgesund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Lu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3411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ist sehr gesu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isst gern G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se? Ich finde es toll dass du isst Brokkoli and Möhren. Gemüse nicht Fett ha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2251080" cy="234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dar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tanze ge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ahre mit dem 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 Bataille. Ich bin fit h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n ich tanze jeden ta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2819160" cy="268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97640" y="1143000"/>
            <a:ext cx="2646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darf nich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Alkohol trinken weil es ist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. Ich bin nicht 21 Jare 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53040" y="3400560"/>
            <a:ext cx="1271520" cy="1827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3352680"/>
            <a:ext cx="2133720" cy="1981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029200" y="3657600"/>
            <a:ext cx="152388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19:11Z</dcterms:created>
  <dc:creator>CUSD220</dc:creator>
  <dc:description/>
  <dc:language>en-US</dc:language>
  <cp:lastModifiedBy>CUSD220</cp:lastModifiedBy>
  <dcterms:modified xsi:type="dcterms:W3CDTF">2012-02-24T18:20:45Z</dcterms:modified>
  <cp:revision>3</cp:revision>
  <dc:subject/>
  <dc:title>Alles über Gesundheit!</dc:title>
</cp:coreProperties>
</file>